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ntro-short.wav" ContentType="audio/x-wav"/>
  <Override PartName="/ppt/media/CHIMES.WAV" ContentType="audio/x-wav"/>
  <Override PartName="/ppt/media/dailydoubl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  <p:custShowLst>
    <p:custShow name="Constitution 200" id="0">
      <p:sldLst>
        <p:sld r:id="rId7"/>
        <p:sld r:id="rId12"/>
      </p:sldLst>
    </p:custShow>
    <p:custShow name="Const 300" id="1">
      <p:sldLst>
        <p:sld r:id="rId8"/>
        <p:sld r:id="rId13"/>
      </p:sldLst>
    </p:custShow>
    <p:custShow name="cosnt 400" id="2">
      <p:sldLst>
        <p:sld r:id="rId9"/>
        <p:sld r:id="rId14"/>
      </p:sldLst>
    </p:custShow>
    <p:custShow name="Const 500" id="3">
      <p:sldLst>
        <p:sld r:id="rId10"/>
        <p:sld r:id="rId15"/>
      </p:sldLst>
    </p:custShow>
    <p:custShow name="gov 100" id="4">
      <p:sldLst>
        <p:sld r:id="rId16"/>
        <p:sld r:id="rId21"/>
      </p:sldLst>
    </p:custShow>
    <p:custShow name="gov 200" id="5">
      <p:sldLst>
        <p:sld r:id="rId17"/>
        <p:sld r:id="rId22"/>
      </p:sldLst>
    </p:custShow>
    <p:custShow name="Gov 300" id="6">
      <p:sldLst>
        <p:sld r:id="rId18"/>
        <p:sld r:id="rId23"/>
      </p:sldLst>
    </p:custShow>
    <p:custShow name="gov 400" id="7">
      <p:sldLst>
        <p:sld r:id="rId19"/>
        <p:sld r:id="rId24"/>
      </p:sldLst>
    </p:custShow>
    <p:custShow name="gov 500" id="8">
      <p:sldLst>
        <p:sld r:id="rId20"/>
        <p:sld r:id="rId25"/>
      </p:sldLst>
    </p:custShow>
    <p:custShow name="Bill 100" id="9">
      <p:sldLst>
        <p:sld r:id="rId26"/>
        <p:sld r:id="rId31"/>
      </p:sldLst>
    </p:custShow>
    <p:custShow name="bill 200" id="10">
      <p:sldLst>
        <p:sld r:id="rId27"/>
        <p:sld r:id="rId32"/>
      </p:sldLst>
    </p:custShow>
    <p:custShow name="bill 300" id="11">
      <p:sldLst>
        <p:sld r:id="rId28"/>
        <p:sld r:id="rId33"/>
      </p:sldLst>
    </p:custShow>
    <p:custShow name="Bill 400" id="12">
      <p:sldLst>
        <p:sld r:id="rId29"/>
        <p:sld r:id="rId34"/>
      </p:sldLst>
    </p:custShow>
    <p:custShow name="bill 500" id="13">
      <p:sldLst>
        <p:sld r:id="rId30"/>
        <p:sld r:id="rId35"/>
      </p:sldLst>
    </p:custShow>
    <p:custShow name="civil 100" id="14">
      <p:sldLst>
        <p:sld r:id="rId36"/>
        <p:sld r:id="rId41"/>
      </p:sldLst>
    </p:custShow>
    <p:custShow name="civil 200" id="15">
      <p:sldLst>
        <p:sld r:id="rId37"/>
        <p:sld r:id="rId42"/>
      </p:sldLst>
    </p:custShow>
    <p:custShow name="civil 300" id="16">
      <p:sldLst>
        <p:sld r:id="rId38"/>
        <p:sld r:id="rId43"/>
      </p:sldLst>
    </p:custShow>
    <p:custShow name="Civil 400" id="17">
      <p:sldLst>
        <p:sld r:id="rId39"/>
        <p:sld r:id="rId44"/>
      </p:sldLst>
    </p:custShow>
    <p:custShow name="civil 500" id="18">
      <p:sldLst>
        <p:sld r:id="rId30"/>
        <p:sld r:id="rId45"/>
      </p:sldLst>
    </p:custShow>
    <p:custShow name="Constitution 100" id="19">
      <p:sldLst>
        <p:sld r:id="rId6"/>
        <p:sld r:id="rId1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A390-090C-498D-8745-FC3E3B32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A712-319D-497D-BC17-19A90DD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EEF-B16C-4680-B27D-2C5D28F1B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6FB-0B90-4788-9AFC-F0E32969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E97-3261-48C8-9507-DFD3E9D9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8BC-E272-4A83-9D05-5D8ED448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F104-91D1-4B81-82A6-6F5D655B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8B1A-62D8-4E05-84D2-04083E98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392F-A0D8-4FE0-A365-F14EDB92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2F76-CFC2-47D4-B04F-F929377B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6E0B-AC80-418E-97CD-8EAAEB7B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B37B-83E2-4A05-85D7-FC28CD1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op Academy of Math, Science, and Technology</a:t>
            </a:r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F089-3701-4C84-B801-D01CC838C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intro-short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dailydoubl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hyperlink" Target="file:///tmp/home/.config/libreoffice/4/user/gallery/endround.wav" TargetMode="External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847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eopardyheader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79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1371600" y="3962520"/>
            <a:ext cx="648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49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intro-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presid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Sena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lvl="1" marL="743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o are the House, Senate, and Chief Justic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veto override, amendment, impeachment, or treaty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wo passions that most people have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WordArt 6"/>
          <p:cNvSpPr txBox="1"/>
          <p:nvPr/>
        </p:nvSpPr>
        <p:spPr>
          <a:xfrm rot="20780400">
            <a:off x="477720" y="2163240"/>
            <a:ext cx="7466040" cy="256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13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0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first United States government was not very effectiv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l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7" dur="1" fill="hold"/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No branch is more powerful than the other branc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Each branch have different responsibilitie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One branch can limit the power of another branch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power and mone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Government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Constitution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876920" y="304920"/>
            <a:ext cx="17524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Bill of Righ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7010280" y="304920"/>
            <a:ext cx="175284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Amendmen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6112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6094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094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6094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59" name="Text Box 20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pic>
        <p:nvPicPr>
          <p:cNvPr id="68" name="Picture 29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6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the Articles of Confederation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balance of pow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separation of power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Government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checks and balanc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gives the right to bare arm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92468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forbids you from testifying against yourself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is outlaws cruel and unusual punishmen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ight to trial by an impartial jury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No unlawful searches without an warrant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second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609480" y="304920"/>
            <a:ext cx="175284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Constitution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743200" y="304920"/>
            <a:ext cx="182880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Government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876920" y="304920"/>
            <a:ext cx="1752480" cy="3988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Bill of Righ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6934320" y="304920"/>
            <a:ext cx="1752480" cy="7038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Flareserif821 BT"/>
              </a:rPr>
              <a:t>Amendments</a:t>
            </a:r>
            <a:endParaRPr b="0" lang="en-US" sz="20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160020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1" action="ppaction://hlinksldjump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259092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609480" y="358128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3" action="ppaction://hlinksldjump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609480" y="4648320"/>
            <a:ext cx="1751040" cy="510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Flareserif821 BT"/>
                <a:hlinkClick r:id="rId4" action="ppaction://hlinksldjump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4464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74320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274320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274320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74320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487836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87692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487692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487692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487692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7012080" y="159876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1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7010280" y="25909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2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7010280" y="35812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3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1" name="Text Box 24"/>
          <p:cNvSpPr/>
          <p:nvPr/>
        </p:nvSpPr>
        <p:spPr>
          <a:xfrm>
            <a:off x="7010280" y="464832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4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7010280" y="5638680"/>
            <a:ext cx="1751040" cy="4597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Flareserif821 BT"/>
              </a:rPr>
              <a:t>$500</a:t>
            </a: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  <p:sp>
        <p:nvSpPr>
          <p:cNvPr id="93" name="AutoShape 27">
            <a:hlinkClick r:id="rId5"/>
          </p:cNvPr>
          <p:cNvSpPr/>
          <p:nvPr/>
        </p:nvSpPr>
        <p:spPr>
          <a:xfrm>
            <a:off x="8839080" y="6649920"/>
            <a:ext cx="304920" cy="208080"/>
          </a:xfrm>
          <a:custGeom>
            <a:avLst/>
            <a:gdLst>
              <a:gd name="textAreaLeft" fmla="*/ 13320 w 304920"/>
              <a:gd name="textAreaRight" fmla="*/ 291600 w 304920"/>
              <a:gd name="textAreaTop" fmla="*/ 13320 h 208080"/>
              <a:gd name="textAreaBottom" fmla="*/ 194760 h 208080"/>
            </a:gdLst>
            <a:ahLst/>
            <a:rect l="textAreaLeft" t="textAreaTop" r="textAreaRight" b="textAreaBottom"/>
            <a:pathLst>
              <a:path w="31635" h="21600">
                <a:moveTo>
                  <a:pt x="0" y="0"/>
                </a:moveTo>
                <a:lnTo>
                  <a:pt x="31635" y="0"/>
                </a:lnTo>
                <a:lnTo>
                  <a:pt x="31635" y="21600"/>
                </a:lnTo>
                <a:lnTo>
                  <a:pt x="0" y="21600"/>
                </a:lnTo>
                <a:close/>
              </a:path>
              <a:path fill="lightenLess" w="31635" h="21600">
                <a:moveTo>
                  <a:pt x="0" y="0"/>
                </a:moveTo>
                <a:lnTo>
                  <a:pt x="31635" y="0"/>
                </a:lnTo>
                <a:lnTo>
                  <a:pt x="30235" y="1400"/>
                </a:lnTo>
                <a:lnTo>
                  <a:pt x="1400" y="1400"/>
                </a:lnTo>
                <a:close/>
              </a:path>
              <a:path fill="darken" w="31635" h="21600">
                <a:moveTo>
                  <a:pt x="31635" y="0"/>
                </a:moveTo>
                <a:lnTo>
                  <a:pt x="31635" y="21600"/>
                </a:lnTo>
                <a:lnTo>
                  <a:pt x="30235" y="20200"/>
                </a:lnTo>
                <a:lnTo>
                  <a:pt x="30235" y="1400"/>
                </a:lnTo>
                <a:close/>
              </a:path>
              <a:path fill="darkenLess" w="31635" h="21600">
                <a:moveTo>
                  <a:pt x="31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235" y="20200"/>
                </a:lnTo>
                <a:close/>
              </a:path>
              <a:path fill="lighten" w="31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5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8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What is the 6</a:t>
            </a:r>
            <a:r>
              <a:rPr b="0" lang="en-US" sz="4400" spc="-1" strike="noStrike" baseline="30000">
                <a:solidFill>
                  <a:srgbClr val="ffffff"/>
                </a:solidFill>
                <a:latin typeface="Flareserif821 BT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 Amend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Bill of Rights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lareserif821 BT"/>
              </a:rPr>
              <a:t>What is the fourth Amend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50840" y="2249640"/>
            <a:ext cx="588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lareserif821 BT"/>
              </a:rPr>
              <a:t>This amendment abolished slavery in 1865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lareserif821 BT"/>
              </a:rPr>
              <a:t>Equal Protection are the two most important word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se are two</a:t>
            </a: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ituations when you would not have freedom of the pres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two clauses in the freedom of religi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five rights in the first amendment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1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1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 year ter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5 year o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7 years as citiz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2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the 1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Amend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Amendments $3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libel or threaten national security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1st Amendment $4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establishment clause and the free exercise claus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1st Amendment $5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are freedom of speech, religion, press, assembly and petition the governmen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Flareserif821 BT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eople we learn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Flareserif821 BT"/>
              </a:rPr>
              <a:t>Final Jeopard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e was a slave that was taken to a free state and sued for freedo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elements of fiction jeopardy.PPT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9144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79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Final Jeopardy-Answ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o is Dred Scott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200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4 year term, natural born citizen, elected by electoral colleg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3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047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6 year term, 30 years old, 9 years as citize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4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Impeach the presi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ies the presid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Presides at tri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5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810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se three things need 2/3 vot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Flareserif821 BT"/>
              </a:rPr>
              <a:t>Constitution $100-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House Representativ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838080" y="2057400"/>
            <a:ext cx="7620120" cy="3581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Flareserif821 BT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5T00:03:29Z</dcterms:created>
  <dc:creator>Brenda Arrington</dc:creator>
  <dc:description/>
  <dc:language>en-US</dc:language>
  <cp:lastModifiedBy>KimberlyCeleste Boyd</cp:lastModifiedBy>
  <dcterms:modified xsi:type="dcterms:W3CDTF">2011-03-10T11:41:31Z</dcterms:modified>
  <cp:revision>69</cp:revision>
  <dc:subject/>
  <dc:title>Constitution Jeopardy</dc:title>
</cp:coreProperties>
</file>